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5E8-C540-4B22-BC73-2F57C36D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53F-9BE7-499C-93D4-0C736BB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F87-B60B-4DAD-A954-1F140D88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5DD-7848-4B60-B55B-06FA851F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6CB-3474-402E-9D06-BC2683A3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9C3-FBAF-4BC6-9426-D8C01E1F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2D2-5215-48DC-8BAD-BE75148A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A1F-DCAD-4326-A619-7803F43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8B6-616D-43E1-A644-B636CD78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4C4-47B0-4F71-9E58-1F24DA2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4E7-D951-4E81-A598-4381F401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37C-134C-47AA-838F-00AADC73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8617-528A-44D0-9B06-E6855DDD1AC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Mak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torial VVV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renzo Na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ome builds include an installation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installation rules using C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33160" y="332100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TARGETS myExe RUNTIME DESTINATION 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FILES files DESTINATION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39000" y="4830840"/>
            <a:ext cx="63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ir&gt; can 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olute pa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ve path, w.r.t. CMAKE_INSTALL_PR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r can customize CMAKE_INSTALL_PR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stall(TARGETS hel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UNTIME DESTINATION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${CMAKE_CURRENT_SOURCE_DIR}/../b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5"/>
          <p:cNvCxnSpPr/>
          <p:nvPr/>
        </p:nvCxnSpPr>
        <p:spPr>
          <a:xfrm flipH="1" flipV="1">
            <a:off x="5002920" y="5660280"/>
            <a:ext cx="864360" cy="23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8"/>
          <p:cNvCxnSpPr/>
          <p:nvPr/>
        </p:nvCxnSpPr>
        <p:spPr>
          <a:xfrm flipH="1" flipV="1">
            <a:off x="4858920" y="4660200"/>
            <a:ext cx="1226160" cy="12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TextBox 10"/>
          <p:cNvSpPr/>
          <p:nvPr/>
        </p:nvSpPr>
        <p:spPr>
          <a:xfrm>
            <a:off x="5902560" y="602136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ation 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12"/>
          <p:cNvCxnSpPr/>
          <p:nvPr/>
        </p:nvCxnSpPr>
        <p:spPr>
          <a:xfrm flipH="1">
            <a:off x="6300000" y="443664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Box 13"/>
          <p:cNvSpPr/>
          <p:nvPr/>
        </p:nvSpPr>
        <p:spPr>
          <a:xfrm>
            <a:off x="6459480" y="41497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dependent (.a in Linu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ake has a few commands that can be used to find directories, executables and libraries insid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3129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file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library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path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333360" y="4724280"/>
            <a:ext cx="8229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re is a better interfac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_package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ackage should provide yo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lib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header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er flags (if a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d_package(&lt;PACKAGE&gt;  [VERSION]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function attempts to locate the package called &lt;PACKAGE&gt; and will return a set of variab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INCLUDE_D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LIBR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AJ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IN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INCLUDE_D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691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es find_package() wor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s for system directories (C:\Program files\&lt;package&gt; or /usr/&lt;package&gt; /usr/local/&lt;package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 for environment variables, very popular &lt;PACKAGE&gt;_D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Make does not enforce a particular set of variables each package set different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xamp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INCLUDE_D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LI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c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YAR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nclude_directories(${YARP_LIBRARIE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target_link_libraries(hello ${YARP_LIBRARIE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source build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build parameters in a simple portab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619280" y="370368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able txt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Lists.t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>
            <a:stCxn id="45" idx="3"/>
          </p:cNvCxnSpPr>
          <p:nvPr/>
        </p:nvCxnSpPr>
        <p:spPr>
          <a:xfrm flipV="1">
            <a:off x="3492360" y="402516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TextBox 6"/>
          <p:cNvSpPr/>
          <p:nvPr/>
        </p:nvSpPr>
        <p:spPr>
          <a:xfrm>
            <a:off x="4356000" y="3832200"/>
            <a:ext cx="9367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12000" y="371304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Files (i.e. Makefile or .sl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/>
          <p:nvPr/>
        </p:nvCxnSpPr>
        <p:spPr>
          <a:xfrm flipV="1">
            <a:off x="5148000" y="4034880"/>
            <a:ext cx="719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9"/>
          <p:cNvSpPr/>
          <p:nvPr/>
        </p:nvSpPr>
        <p:spPr>
          <a:xfrm>
            <a:off x="715320" y="486900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, header 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853080" y="4984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‘introspection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2"/>
          <p:cNvCxnSpPr/>
          <p:nvPr/>
        </p:nvCxnSpPr>
        <p:spPr>
          <a:xfrm flipV="1">
            <a:off x="1763640" y="4507920"/>
            <a:ext cx="288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3"/>
          <p:cNvCxnSpPr/>
          <p:nvPr/>
        </p:nvCxnSpPr>
        <p:spPr>
          <a:xfrm flipV="1">
            <a:off x="4500720" y="4347360"/>
            <a:ext cx="143280" cy="63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solved by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and maintain project files for multiple platfor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tional component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on more than a single machine: different OS have different libraries, same OS ca be installed differentl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utomatically search for programs libraries header fi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directory tree different from source tr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ndle dependenc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versus Dynamic libra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nds (case in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(case 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9640" y="2997360"/>
            <a:ext cx="459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FOO 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FOO}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FOO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PATH_TO_MY_FILE C:\program files\myfi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PATH_TO_MY_FILE}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PATH_TO_MY_FILE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include_directories(${CMAKE_CURRENT_SOURCE_DIR}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ssage(STATUS "--&gt; Hello from CMake"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if (WIN32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ssage("--&gt; Running on windows"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else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ssage("--&gt; Assuming running on Linux"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if (NOT EXISTS "${CMAKE_CURRENT_SOURCE_DIR}/hello.cpp"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ssage(FATAL_ERROR "File hello.cpp not found!"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ersus build direct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mand 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d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 ../ or ccmake .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g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-gu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source and build direc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t “c” until you get “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63400" y="580536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= source dir: in source bui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!= source dir: out of source bui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variables are determined only once and cached on disk; CMake will not touch them, only the us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.g. user options or result of system introspection, info that are expensive to determine (compiler to use, system libraries, etc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o a fresh restart, clean the c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gu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ove CMakeCache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 on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executable(name file1.cpp file2.cpp header1.h header2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_link_libraries(name lib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library(name file1.cpp file2.cpp header1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_directories(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FOO -DB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if _ENABLE_DEBUG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f(“Value of variable v is %d”, v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_ENABLE_DEBUG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1:01:40Z</dcterms:created>
  <dc:creator>nat</dc:creator>
  <dc:description/>
  <dc:language>en-US</dc:language>
  <cp:lastModifiedBy>nat</cp:lastModifiedBy>
  <dcterms:modified xsi:type="dcterms:W3CDTF">2011-07-18T13:39:27Z</dcterms:modified>
  <cp:revision>15</cp:revision>
  <dc:subject/>
  <dc:title>CMake</dc:title>
</cp:coreProperties>
</file>